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83D6-4D3F-4F36-82D0-B757553A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92A-5BAC-4F88-A54A-7E50C755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i.ytimg.com/vi/xRYE3dccklg/hqdefaul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8BAB-1118-4AD0-A11A-0F0597D9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63F-8A82-4368-A7FD-754C90C1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85B4-5862-45FD-953B-A2F17C51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psychology.wikia.com/wiki/Chromosomal_translocation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0822-E2FA-46E4-BD41-3A6086863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hr.nlm.nih.gov/handbook/illustrations/inversion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EFA6-19A2-4E23-A7D1-7FEC83CC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8D6-4D14-43EA-BDC4-2F792937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E844-E067-44BA-AD43-B5357A92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yorku.ca/eye/spectr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6BD0-6F34-4752-A981-23873961E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:  UV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: Xrays, gamma rays, radioactive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4D50-9502-4B04-8362-ACBA4EF63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096E-EC77-4442-B9A3-57DD2B6F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 http://www.cancer.org/cancer/cancercauses/geneticsandcancer/oncogenesandtumorsuppressorgenes/oncogenes-tumor-suppressor-genes-and-cancer-mutations-and-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1738-8BC6-4A86-B1FA-07F7FBD4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doctortipster.com/wp-content/uploads/2012/02/Mut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E13A-5481-405C-9A81-A1841627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uffingtonpost.ca/2011/09/27/cigarette-packaging-march_n_9829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736-DEC3-4CDE-ACE6-4F85395D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moke-free.ca/warnings/canada-warning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9E1-3EDF-4ED6-BAA7-8FDB90FE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A11-29E8-45DF-B660-7B90F4F3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6828-B7FE-4BDD-BA63-CF5A70E7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D14B-5928-48BF-B8FB-513E1686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avonapbio.pbworks.com/w/page/9429271/Ch-1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C749-3F5C-4473-85C5-E3EBC5B1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77F4-D5B7-4806-8D17-F673B37A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D95-CF5C-49CB-AA3C-A834011B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17/mutation-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272-145C-427F-B7E6-7FBFF6C5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tcbio.com/3.1.1_genetic_disorders.aspx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aluren is a drug that is being tested for use on patients with nonsense mutation-causing genetic disorders such as some types of cystic fibrosis and some types of hemophi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A34-8DA7-46FB-9F88-3A62D7C0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hr.nlm.nih.gov/handbook/illustrations/frame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283-0ECD-48AC-8EC0-916EE884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A2F-BA11-4EF4-B5F6-195E41B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A1F-15EA-4398-A70E-765B4F48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CC7-449F-40F9-8558-EE6008EB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611-142A-435D-8BF6-9471403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6BD-8C4F-4FAD-8B40-5B389DB2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28D-4F8F-47F6-9BD8-55125BE5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41F-12C1-4054-996D-FB356131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A32-878D-49AD-A3E1-09E3F56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FAF-521B-4711-9F6F-393FA3C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BD2-9D7E-452F-82E7-801DBFD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9F5-A89C-4E22-8A92-5CDC8AAD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FB38-A8C2-4630-BEE5-63EFA0A4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richarddawkins.net/2013/11/50000-generations-of-bacteria-prove-that-evolution-never-stops/" TargetMode="External"/><Relationship Id="rId2" Type="http://schemas.openxmlformats.org/officeDocument/2006/relationships/hyperlink" Target="https://www.newscientist.com/article/dn14094-bacteria-make-major-evolutionary-shift-in-the-lab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960" y="24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tic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-Scale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multiple nucleotides, entire genes, or whole region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cation (gene 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ion of all or part of the gene for the protein dystrophin results in types of muscular dystr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-Scale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o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ovement of entire genes or DNA sequences from one chromosom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sable elements (transposon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DNA sequences that move freely and can caus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nucleotide repeat expa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ranslocation-4-20"/>
          <p:cNvPicPr/>
          <p:nvPr/>
        </p:nvPicPr>
        <p:blipFill>
          <a:blip r:embed="rId1"/>
          <a:stretch/>
        </p:blipFill>
        <p:spPr>
          <a:xfrm>
            <a:off x="1928880" y="1981080"/>
            <a:ext cx="52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nversion"/>
          <p:cNvPicPr/>
          <p:nvPr/>
        </p:nvPicPr>
        <p:blipFill>
          <a:blip r:embed="rId1"/>
          <a:stretch/>
        </p:blipFill>
        <p:spPr>
          <a:xfrm>
            <a:off x="2665440" y="1981080"/>
            <a:ext cx="38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ntan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caused by errors in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ced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used by environmental agen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g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Mut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monoxide, nitrous acid, ethidium bromid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odify nucleotides so that they resemble other base pairs;  can mimic a DNA nucleotide, inserting itself in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pectrum"/>
          <p:cNvPicPr/>
          <p:nvPr/>
        </p:nvPicPr>
        <p:blipFill>
          <a:blip r:embed="rId1"/>
          <a:stretch/>
        </p:blipFill>
        <p:spPr>
          <a:xfrm>
            <a:off x="957240" y="1981080"/>
            <a:ext cx="722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 radiation can cause bonds to form between adjacent nucleotides (nonhomologous end-joi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E radiation (ionizing radiation) can break bonds within DNA, causing rearrangement or del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mutations (silent mu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hat regulate type of cell &amp; how often it divides can be mutated to 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co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mor suppressor 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rmal genes that slow down cell division, repair DNA mistakes, regulate cell death;  mutations in these genes can cause cancer and are often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utations are changes in the DNA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causes of genetic mu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2" descr="Mutation.jpg"/>
          <p:cNvPicPr/>
          <p:nvPr/>
        </p:nvPicPr>
        <p:blipFill>
          <a:blip r:embed="rId1"/>
          <a:srcRect l="17126" t="0" r="1712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9" descr="r-CIGARETTE-PACKAGING-CANADA-large570"/>
          <p:cNvPicPr/>
          <p:nvPr/>
        </p:nvPicPr>
        <p:blipFill>
          <a:blip r:embed="rId1"/>
          <a:stretch/>
        </p:blipFill>
        <p:spPr>
          <a:xfrm>
            <a:off x="685800" y="2417760"/>
            <a:ext cx="77724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rge"/>
          <p:cNvPicPr/>
          <p:nvPr/>
        </p:nvPicPr>
        <p:blipFill>
          <a:blip r:embed="rId1"/>
          <a:stretch/>
        </p:blipFill>
        <p:spPr>
          <a:xfrm>
            <a:off x="685800" y="2633760"/>
            <a:ext cx="7772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learned in Grade 11 that mutations cause evolution…that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beneficial mut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the survival of a species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mful mut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e oppo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fascinating 27-year experiment that PROVES mutations cause evolu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Dawkins wrote about Richard Lensk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experimen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icharddawkins.net/2013/11/50000-generations-of-bacteria-prove-that-evolution-never-stop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topic, bu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s artic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r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-Scale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ingle base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of small groups of base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int_mutation"/>
          <p:cNvPicPr/>
          <p:nvPr/>
        </p:nvPicPr>
        <p:blipFill>
          <a:blip r:embed="rId1"/>
          <a:stretch/>
        </p:blipFill>
        <p:spPr>
          <a:xfrm>
            <a:off x="804960" y="1981080"/>
            <a:ext cx="753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nucleotide polymorphisms are differences between individuals caused by point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n non-coding DNA, and sometimes used in identifying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t mu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ense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ense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shift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7_23-PointMutationTypes"/>
          <p:cNvPicPr/>
          <p:nvPr/>
        </p:nvPicPr>
        <p:blipFill>
          <a:blip r:embed="rId1"/>
          <a:stretch/>
        </p:blipFill>
        <p:spPr>
          <a:xfrm>
            <a:off x="2679840" y="609480"/>
            <a:ext cx="378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sense 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tc_technology_white-with-l"/>
          <p:cNvPicPr/>
          <p:nvPr/>
        </p:nvPicPr>
        <p:blipFill>
          <a:blip r:embed="rId1"/>
          <a:stretch/>
        </p:blipFill>
        <p:spPr>
          <a:xfrm>
            <a:off x="1481040" y="1981080"/>
            <a:ext cx="618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frameshift"/>
          <p:cNvPicPr/>
          <p:nvPr/>
        </p:nvPicPr>
        <p:blipFill>
          <a:blip r:embed="rId1"/>
          <a:stretch/>
        </p:blipFill>
        <p:spPr>
          <a:xfrm>
            <a:off x="849240" y="609480"/>
            <a:ext cx="7445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40Z</dcterms:created>
  <dc:creator>rubina khan</dc:creator>
  <dc:description/>
  <dc:language>en-US</dc:language>
  <cp:lastModifiedBy>rubina khan</cp:lastModifiedBy>
  <dcterms:modified xsi:type="dcterms:W3CDTF">2017-04-06T13:55:57Z</dcterms:modified>
  <cp:revision>106</cp:revision>
  <dc:subject/>
  <dc:title>Protein Synthesis</dc:title>
</cp:coreProperties>
</file>